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77B8-27F3-4AD7-BC5C-0B2A72E8C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501C-251F-4E4E-BD3C-999A946AFE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57F0-1913-4979-A56D-F7256C0490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B6FB-70E1-4131-8F3F-B0E63096EB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2B11-4F4E-4F93-A022-071F6EEBBC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8D3C-A78B-4690-9645-9F0AC3D038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7C0A-55A8-437E-8EA4-C6FE6AB1F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D779-5163-4305-8EF9-E7228542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7B67-4248-4E2E-9C01-38A79A70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6EB3-CA5C-44D6-9239-F3530430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DB3F-8402-4943-BC1C-E77F6B64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077E-5914-403A-9C6D-8BC32474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4900-801A-4990-B945-FFC3AE02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CCB3-490B-4070-8482-1CD6805E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2901-CE62-4936-BCC5-EA4F7B74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A250-47D1-4BD8-B2F4-F16070ED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D755-021C-4A0D-8B03-92D150FB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415C-8505-41DB-8BCB-186E0EA2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BB58-7414-4BD1-8675-4B0EB34B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2C81-07FE-48B9-98D4-6350FCDB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B69C-E9D3-4208-88E5-BAC4A4EA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9A54-9E54-407E-A8F8-FD53C651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C38B-8C87-4626-B796-AEC61132A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51B6-D05E-4D1D-9607-B23E7CCE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17CD-308F-47C3-B5EA-8C46D1DD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699D-03DA-4942-A742-1AE7D945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9F11-2EDE-4E6E-97BC-9028431B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239B-FF9D-40E9-80D4-504CDAD1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E9B9-5306-43EF-BA33-66E2D524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084F-EF66-44B1-AD30-BC5D36E8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A21B-A23A-4075-8B7D-D7833A8D6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3572-844E-4093-BE60-F8DE04F5C0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itizenship ONQ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 to check your knowle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consult your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the questions on a separate sheet of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exchange papers when everyone is d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O NOT TALK……AT 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914400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What does a citizen receive in exchange for loyalty from the government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2349360" y="3165480"/>
            <a:ext cx="4445280" cy="37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1201320"/>
            <a:ext cx="91440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</a:t>
            </a:r>
            <a:r>
              <a:rPr b="1" lang="en-US" sz="4400" spc="-1" strike="noStrike">
                <a:solidFill>
                  <a:srgbClr val="000066"/>
                </a:solidFill>
                <a:latin typeface="Arial Black"/>
              </a:rPr>
              <a:t>Define jus soli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2028960" y="2567160"/>
            <a:ext cx="5086080" cy="33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863280"/>
            <a:ext cx="91440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</a:t>
            </a:r>
            <a:r>
              <a:rPr b="1" lang="en-US" sz="4400" spc="-1" strike="noStrike">
                <a:solidFill>
                  <a:srgbClr val="000066"/>
                </a:solidFill>
                <a:latin typeface="Arial Black"/>
              </a:rPr>
              <a:t>Define jus sanguine.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 Black"/>
              </a:rPr>
              <a:t>(sanguinis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2587680" y="3206880"/>
            <a:ext cx="396864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830160"/>
            <a:ext cx="8686800" cy="21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To be classified as an immigrant what intentions must a person hav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2"/>
          <a:stretch/>
        </p:blipFill>
        <p:spPr>
          <a:xfrm>
            <a:off x="2971800" y="3657600"/>
            <a:ext cx="299412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90320"/>
            <a:ext cx="868680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To begin the naturalization process what a must a person do FIRST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2514600" y="3524400"/>
            <a:ext cx="4273560" cy="3352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2-01-17T13:01:32Z</dcterms:modified>
  <cp:revision>132</cp:revision>
  <dc:subject/>
  <dc:title>D/O: TO EXPLAIN AND IDENTIFY PROBLEMS OF ECONOMICS</dc:title>
</cp:coreProperties>
</file>